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02CD-6296-42D0-A226-D6C704E66E8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BE01-BA66-42DF-93E4-95610AC83CC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31C4-5AB1-48D3-ACD6-6D6490D9280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815-50EF-47C8-A005-7EE6FDAE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FA3-D9B4-4016-9EF0-EA2B5860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898-08BD-462E-A844-63DBA364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248-3E5F-4924-AC38-AEF466F4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AA80-B29D-4572-8D9D-EAA1C2AB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3996-7F81-4CCE-8509-38D846A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BD4E-E1D8-4D35-B209-2250C176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E1EB-66B2-4822-804E-4625A30F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7229-45F6-4338-AAD3-49D0E43B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54E7-1487-4662-820C-BB79CE73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9253-96FA-45BC-83A5-56E808E3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35E-C957-438D-9EF3-E439B9AD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FCA9-E0DA-4489-89EB-41247D7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856F-DFAF-4BF2-87EF-84C6FDF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3ABD-F8EA-44D2-AA5B-A2E4B6A3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0770-7628-4D47-8058-CBDE6E1F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0E89-ABAA-4069-8ACE-89E1DB6A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D11D-4A78-4947-8EAC-06AF04FE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76F7-4397-4926-B721-265A6C84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BF52-3487-48C8-B738-211A6EA9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69E7-A617-483C-81D2-9254AE1E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6BACD-83CE-4E9D-BCFE-3E4FA3E0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873-A17E-40D0-9C19-F0996F41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97FC-7CFB-4425-8BB0-C16A8D8E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2C20A-C3D0-4770-B92F-684DC7D7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B74B-8CA2-4F8B-9239-E8848340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265D-F181-491E-8567-730048AA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6FD4-C15B-4B01-99E2-EAD964D2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CE76-9BB1-4183-9074-34B75EBB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5015C-CF48-415C-B7FE-6396C15B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B98B-0633-4B0B-BABB-D358EC6F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34DB-70D7-4CC1-BB2F-CF8FA461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04CC-9EC3-4C76-B9A6-9BA221EE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DAC-BD5D-4916-8C41-E5F43093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36E5-C694-409C-95EA-D619F18D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6CB1-CD73-4B9C-8B3E-B2575769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3DDC-912D-4088-A2C9-0763A221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1B0F2-46F5-41A1-9C24-AF936FE2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E137-A94D-4FF0-8AD7-F86183F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7756-186C-435F-BCEB-92FF040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5B94-69A6-44F9-986A-3B007CDA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6D9A-DF30-4B1A-A0B7-365CAE72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4D61-4FA5-439E-9ABD-ABD830C6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BF4CC-0D7A-4670-8714-25F7A89E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FB6-24E6-4C67-8192-6D924BC4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F62E-7EE8-40BB-898F-5B708028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B959-0A67-49D9-B1D0-C7A9AABB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AE3E9-66F6-4744-8F8D-019DCED9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2CECF-5076-4118-A9BE-9098F233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324C6-103E-4436-8FF9-1194A12C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6366-98FA-4BFF-96C8-86E8A394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621A-F4BC-4E5B-86C2-E99870F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283D1-B8DD-4697-A630-6631126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67D48-241F-467B-A912-A0B00123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23F8-0D6A-497C-8991-F30C2B1B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E84-D0E0-4689-9896-BCD956B5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9AB1-98FA-43B0-9A88-AD2B3BFA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D4CB-345A-42B4-84D9-8A2D3DB2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5106F-2CC9-4777-9194-7881F077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11DFD-C9DA-4AC9-BB23-C4F7F22C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A58A-F01B-4FE4-860D-D97A4AE4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C9877-F1B9-4B38-9C40-7CB8A6C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9B2A8-EF77-4C9F-A66D-F493915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974C-B2BA-4A0F-92B2-A5B4131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0058D-7352-4A50-BFB8-9BECBBA0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26DB1-4BA7-441F-925C-3CF133F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142-74B1-4542-BC70-6E61CA8B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467D-1E69-499F-88D0-83AFDF99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F1EA-718C-4010-B6B2-96D99168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3BB14-74D9-4BCA-8E18-B0C84DA4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AC1DC-416A-4074-A0BD-06F623A2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87FEB-6E25-4F38-8EEF-7DE1208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2A69B-1F4C-407C-94C4-1B2719A9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C7037-4A35-4B13-803E-106A5771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0720C-5A9F-4BCA-B6AB-24461E1C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E67E6-E237-412C-9E4B-B8056ED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97D67-2DAF-4BAE-8E22-CDF2ADF5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92F-4386-466E-A739-75F5AC0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0FA1D-CBA3-450D-90B1-8535F6E1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2B45-425B-4CD9-8666-0FED6D4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5DDD1-01FD-4162-81D5-4553D465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9BF0E-A8A2-4521-AFB2-67A14308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76BFF-2CAC-4056-BF88-AD1B9550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9C240-435B-48F0-A215-1521E20D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4A6A4-C8B8-4C4D-A65B-1CA99E75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8138A-EE48-4FC1-8FE7-DDFC19AB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0226B-E50A-415F-ABE0-37091930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071C6-9E0F-4E5D-84CB-5EE83CA0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B13-66C5-467D-B566-037D271F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E5A65-EACF-4136-97A5-B339EA0B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C9DD6-B446-47D8-87F4-BA5FACB0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37E3C-90C5-4C8D-8FAC-DFD62964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96C2C-7DC6-4E5F-8468-AAE2D3C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549CC-8734-4659-BFCD-98B60A3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A81A0-149D-4893-85EB-C92AF8C3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83233-106A-4190-ADB3-EE1B91FB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F8BA-7E91-4173-81FA-734E37D9F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Triangolo isosce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8A45-9B86-4577-B922-3A225E29A3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1AD2-14ED-464A-AB0B-FAF334712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iangolo rettangolo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riangolo isosce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Connettore 1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Connettore 1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A80A-3726-46A0-9BB0-139259DBB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2F3D-A452-4748-B22D-B6BD3E61A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5DD3-341F-40F3-A83D-6D4FAC326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4172-90F9-499A-A660-FF15954DF81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B7E9-511C-44A6-BF99-985234DF646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15" descr=""/>
          <p:cNvPicPr/>
          <p:nvPr/>
        </p:nvPicPr>
        <p:blipFill>
          <a:blip r:embed="rId1"/>
          <a:stretch/>
        </p:blipFill>
        <p:spPr>
          <a:xfrm>
            <a:off x="444600" y="3998880"/>
            <a:ext cx="8254800" cy="65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SAA_1a_LOGO_NUOVO_2008"/>
          <p:cNvPicPr/>
          <p:nvPr/>
        </p:nvPicPr>
        <p:blipFill>
          <a:blip r:embed="rId2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iverità"/>
          <p:cNvPicPr/>
          <p:nvPr/>
        </p:nvPicPr>
        <p:blipFill>
          <a:blip r:embed="rId3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LE OPERAZIONI DI FINANZIAMENTO BANCARI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Arial"/>
              </a:rPr>
              <a:t>Il pricing dei prestit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f.ssa Paola De Vincentii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f.ssa Eleonora Isai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7" name="Segnaposto contenuto 2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Gothic"/>
              </a:rPr>
              <a:t>La banca, sulla base dell’esperienza storica del proprio portafoglio crediti, procede a stimare il tasso di recupero atteso  per categorie omogenee di prestiti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Gothic"/>
              </a:rPr>
              <a:t>Problema: ristrettezza fisiologica del data base disponibil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Gothic"/>
              </a:rPr>
              <a:t>Conseguenza: impossibilità di tenere in considerazione tutte le potenziali variabili esplicativ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Gothic"/>
              </a:rPr>
              <a:t>Problema aggravato in caso di banche di dimensione medio-piccola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946080" y="1989000"/>
          <a:ext cx="7058160" cy="2529000"/>
        </p:xfrm>
        <a:graphic>
          <a:graphicData uri="http://schemas.openxmlformats.org/drawingml/2006/table">
            <a:tbl>
              <a:tblPr/>
              <a:tblGrid>
                <a:gridCol w="1411200"/>
                <a:gridCol w="1684440"/>
                <a:gridCol w="1138320"/>
                <a:gridCol w="1413000"/>
                <a:gridCol w="141120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p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% Recup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2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,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18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1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,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2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,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18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,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sp>
        <p:nvSpPr>
          <p:cNvPr id="382" name="CasellaDiTesto 4"/>
          <p:cNvSpPr/>
          <p:nvPr/>
        </p:nvSpPr>
        <p:spPr>
          <a:xfrm>
            <a:off x="971640" y="50846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Note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Tasso di attualizzazione: 5%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Tipologia: 1 = crediti assistiti da garanzia verso controparti residenti nel Nord-Italia, 2 = 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entury Gothic"/>
              </a:rPr>
              <a:t>MODELLI DI TIPO STATISTICO-QUANTITATIVO  </a:t>
            </a:r>
            <a:r>
              <a:rPr b="0" lang="it-IT" sz="2600" spc="-1" strike="noStrike">
                <a:solidFill>
                  <a:srgbClr val="000000"/>
                </a:solidFill>
                <a:latin typeface="Century Gothic"/>
              </a:rPr>
              <a:t>(SCORING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entury Gothic"/>
              </a:rPr>
              <a:t>METODI DI TIPO QUALI-QUANTITATIVO </a:t>
            </a:r>
            <a:r>
              <a:rPr b="0" lang="it-IT" sz="2600" spc="-1" strike="noStrike">
                <a:solidFill>
                  <a:srgbClr val="000000"/>
                </a:solidFill>
                <a:latin typeface="Century Gothic"/>
              </a:rPr>
              <a:t>(RATING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entury Gothic"/>
              </a:rPr>
              <a:t>MODELLI FONDATI SULL’UTILIZZO DI DATI DI MERCAT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Esempio: metodi basati sui </a:t>
            </a:r>
            <a:r>
              <a:rPr b="0" i="1" lang="it-IT" sz="2000" spc="-1" strike="noStrike">
                <a:solidFill>
                  <a:srgbClr val="000000"/>
                </a:solidFill>
                <a:latin typeface="Century Gothic"/>
              </a:rPr>
              <a:t>corporate bonds spread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Esempio: metodi basati sull’osservazione del livello e della volatilità delle quotazioni azionari (modelli alla Merton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olo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5476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68360" y="1989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Prestito 1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: Apertura di credito in conto corrent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Ammontare massimo prelevabile: 75.000 eur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Ammontare attualmente utilizzato: 40.000 eur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UGD: 80%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PD: 1,8%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Ammontare stimato recuperabile in caso di default: 20% dell’EA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Tempo necessario per il recupero: 5 ann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Costi del recupero: 5% dell’EA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1988640"/>
            <a:ext cx="40388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Prestito 2: Prestito ipotecari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Ammontare del prestito: 200.000 eur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Debito residuo: 180.000 eur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PD: 2,5%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Ammontare stimato recuperabile in caso di default: 95% dell’EA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Tempo necessario per il recupero: 4 ann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Costi del recupero: 7% dell’EA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CasellaDiTesto 4"/>
          <p:cNvSpPr/>
          <p:nvPr/>
        </p:nvSpPr>
        <p:spPr>
          <a:xfrm>
            <a:off x="250920" y="630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Tasso attualizzazione risk free: 1%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Gothic"/>
              </a:rPr>
              <a:t>La perdita attesa rappresenta la media della distribuzione delle perdite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Gothic"/>
              </a:rPr>
              <a:t>Tale distribuzione presenta però una variabilità intorno al valor medio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Gothic"/>
              </a:rPr>
              <a:t>E’ possibile identificare un livello di perdita massima potenziale con un dato livello di probabilità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entury Gothic"/>
              </a:rPr>
              <a:t>Perdita inattesa = Perdita massima potenziale – perdita attesa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entury Gothic"/>
              </a:rPr>
              <a:t>La perdita inattesa rappresenta la trasposizione in ambito rischio creditizio del concetto di value-at-risk (Var)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Segnaposto contenuto 8" descr=""/>
          <p:cNvPicPr/>
          <p:nvPr/>
        </p:nvPicPr>
        <p:blipFill>
          <a:blip r:embed="rId2"/>
          <a:stretch/>
        </p:blipFill>
        <p:spPr>
          <a:xfrm>
            <a:off x="450720" y="1547640"/>
            <a:ext cx="8266320" cy="3468960"/>
          </a:xfrm>
          <a:prstGeom prst="rect">
            <a:avLst/>
          </a:prstGeom>
          <a:ln w="0">
            <a:noFill/>
          </a:ln>
        </p:spPr>
      </p:pic>
      <p:sp>
        <p:nvSpPr>
          <p:cNvPr id="393" name="CasellaDiTesto 4"/>
          <p:cNvSpPr/>
          <p:nvPr/>
        </p:nvSpPr>
        <p:spPr>
          <a:xfrm>
            <a:off x="684360" y="5229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Linea fucsia: perdita attesa = 3,49%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Linea nera: massima perdita potenziale con livello di confidenza 90% = 4,50%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Perdita inattesa = Max perdita potenziale – perdita attesa = 4,50% - 3,49% = 1,01%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75760" cy="1407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68360" y="198900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Prestito ipotecario a 20 anni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Importo erogato: 250.000 euro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Costo di funding per la banca: 4% annuo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Costi operativi: 0,3% annuo dell’importo erogato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Classe di rating: B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Probabilità di default: 1,5% su base annu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RR: 95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Perdita inattesa: 3% su base annu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Roe desiderato dagli azionisti: 10% su base annu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Tasso risk free = 2% su base annu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75760" cy="1407960"/>
          </a:xfrm>
          <a:prstGeom prst="rect">
            <a:avLst/>
          </a:prstGeom>
          <a:ln w="0">
            <a:noFill/>
          </a:ln>
        </p:spPr>
      </p:pic>
      <p:pic>
        <p:nvPicPr>
          <p:cNvPr id="397" name="Segnaposto contenuto 2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99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Il montante atteso del prestito deve coprire il costo di approvvigionamento fondi  e tutti gli altri costi sostenuti dalla banca, ivi compresa una congrua remunerazione per gli azionisti in relazione alla quota di patrimonio «assorbita»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Determinazione del montante atteso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Scenario 1 = Il debitore non è insolvent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876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entury Gothic"/>
              </a:rPr>
              <a:t>Montante = C x (1+r)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2" marL="876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entury Gothic"/>
              </a:rPr>
              <a:t>Probabilità = 1- pd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2" marL="876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Scenario 2 = Il debitore è insolvent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Montante = C x RR x (1+r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Probabilità = p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64760" cy="1547640"/>
          </a:xfrm>
          <a:prstGeom prst="rect">
            <a:avLst/>
          </a:prstGeom>
          <a:ln w="0">
            <a:noFill/>
          </a:ln>
        </p:spPr>
      </p:pic>
      <p:pic>
        <p:nvPicPr>
          <p:cNvPr id="357" name="Segnaposto contenuto 3" descr=""/>
          <p:cNvPicPr/>
          <p:nvPr/>
        </p:nvPicPr>
        <p:blipFill>
          <a:blip r:embed="rId2"/>
          <a:stretch/>
        </p:blipFill>
        <p:spPr>
          <a:xfrm>
            <a:off x="407880" y="1847880"/>
            <a:ext cx="8302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99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Costi da coprire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Funding = C x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Costi operativi = C x C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Remunerazione azionisti = C x Perdita inattesa x (Roe – i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rf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Dove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C = capitale erogato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r = tasso praticato al cliente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RR = tasso di recupero in caso di insolvenza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i = costo di </a:t>
            </a:r>
            <a:r>
              <a:rPr b="0" i="1" lang="it-IT" sz="2000" spc="-1" strike="noStrike">
                <a:solidFill>
                  <a:srgbClr val="000000"/>
                </a:solidFill>
                <a:latin typeface="Century Gothic"/>
              </a:rPr>
              <a:t>funding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 per la banca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Co = costi operativi espressi in % del capitale erogato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UL = perdita inattesa espressa in % dell’ammontare erogato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Roe = remunerazione desiderata dagli azionisti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rf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 = tasso di remunerazione risk free ottenibili investendo il patrimonio della banca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3" name="Segnaposto contenuto 2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5" name="Segnaposto contenuto 2" descr=""/>
          <p:cNvPicPr/>
          <p:nvPr/>
        </p:nvPicPr>
        <p:blipFill>
          <a:blip r:embed="rId2"/>
          <a:stretch/>
        </p:blipFill>
        <p:spPr>
          <a:xfrm>
            <a:off x="450720" y="1878120"/>
            <a:ext cx="8242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olo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8049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4"/>
          <p:cNvGrpSpPr/>
          <p:nvPr/>
        </p:nvGrpSpPr>
        <p:grpSpPr>
          <a:xfrm>
            <a:off x="620640" y="1052640"/>
            <a:ext cx="8523360" cy="5143320"/>
            <a:chOff x="620640" y="1052640"/>
            <a:chExt cx="8523360" cy="5143320"/>
          </a:xfrm>
        </p:grpSpPr>
        <p:sp>
          <p:nvSpPr>
            <p:cNvPr id="408" name="AutoShape 5"/>
            <p:cNvSpPr/>
            <p:nvPr/>
          </p:nvSpPr>
          <p:spPr>
            <a:xfrm>
              <a:off x="620640" y="1052640"/>
              <a:ext cx="8523360" cy="51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969840" y="5167080"/>
              <a:ext cx="7963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969840" y="4024440"/>
              <a:ext cx="1118160" cy="114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1109160" y="5396040"/>
              <a:ext cx="9082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TIT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2227320" y="3452760"/>
              <a:ext cx="1047600" cy="571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2367000" y="5281560"/>
              <a:ext cx="104760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Costi operativi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3484800" y="2538360"/>
              <a:ext cx="1046520" cy="914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Text Box 12"/>
            <p:cNvSpPr/>
            <p:nvPr/>
          </p:nvSpPr>
          <p:spPr>
            <a:xfrm>
              <a:off x="3624120" y="5281560"/>
              <a:ext cx="104760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EL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4671720" y="1967040"/>
              <a:ext cx="1117800" cy="571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Text Box 14"/>
            <p:cNvSpPr/>
            <p:nvPr/>
          </p:nvSpPr>
          <p:spPr>
            <a:xfrm>
              <a:off x="4671720" y="5281560"/>
              <a:ext cx="125712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Costo del capitale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Rectangle 15"/>
            <p:cNvSpPr/>
            <p:nvPr/>
          </p:nvSpPr>
          <p:spPr>
            <a:xfrm>
              <a:off x="6139080" y="1967040"/>
              <a:ext cx="1326600" cy="3200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Text Box 16"/>
            <p:cNvSpPr/>
            <p:nvPr/>
          </p:nvSpPr>
          <p:spPr>
            <a:xfrm>
              <a:off x="6209640" y="5396040"/>
              <a:ext cx="1326600" cy="4568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Comic Sans MS"/>
                </a:rPr>
                <a:t>Pricing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AutoShape 17"/>
            <p:cNvSpPr/>
            <p:nvPr/>
          </p:nvSpPr>
          <p:spPr>
            <a:xfrm>
              <a:off x="1738800" y="1281240"/>
              <a:ext cx="349200" cy="2514240"/>
            </a:xfrm>
            <a:custGeom>
              <a:avLst/>
              <a:gdLst>
                <a:gd name="textAreaLeft" fmla="*/ 223200 w 349200"/>
                <a:gd name="textAreaRight" fmla="*/ 349560 w 349200"/>
                <a:gd name="textAreaTop" fmla="*/ 65520 h 2514240"/>
                <a:gd name="textAreaBottom" fmla="*/ 2448720 h 25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Text Box 18"/>
            <p:cNvSpPr/>
            <p:nvPr/>
          </p:nvSpPr>
          <p:spPr>
            <a:xfrm>
              <a:off x="759960" y="2309760"/>
              <a:ext cx="10476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pread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Line 19"/>
            <p:cNvSpPr/>
            <p:nvPr/>
          </p:nvSpPr>
          <p:spPr>
            <a:xfrm>
              <a:off x="690840" y="1967040"/>
              <a:ext cx="8380080" cy="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830160" y="1281240"/>
              <a:ext cx="8102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entury Gothic"/>
              </a:rPr>
              <a:t>Operazioni EVA Neutral (EVA = 0)</a:t>
            </a:r>
            <a:r>
              <a:rPr b="0" lang="it-IT" sz="2100" spc="-1" strike="noStrike">
                <a:solidFill>
                  <a:srgbClr val="000000"/>
                </a:solidFill>
                <a:latin typeface="Century Gothic"/>
              </a:rPr>
              <a:t>: il tasso praticato al cliente copre tutti i costi, compresa la remunerazione per gli azionisti al tasso desiderato (r = colonna blu)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entury Gothic"/>
              </a:rPr>
              <a:t>Operazioni con EVA Positivo</a:t>
            </a:r>
            <a:r>
              <a:rPr b="0" lang="it-IT" sz="2100" spc="-1" strike="noStrike">
                <a:solidFill>
                  <a:srgbClr val="000000"/>
                </a:solidFill>
                <a:latin typeface="Century Gothic"/>
              </a:rPr>
              <a:t>: il tasso praticato al cliente consente di remunerare il capitale assorbito ad un livello maggiore del minimo desiderato dagli azionisti (r &gt; colonna blu)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entury Gothic"/>
              </a:rPr>
              <a:t>Operazioni con EVA Negativo</a:t>
            </a:r>
            <a:r>
              <a:rPr b="0" lang="it-IT" sz="2100" spc="-1" strike="noStrike">
                <a:solidFill>
                  <a:srgbClr val="000000"/>
                </a:solidFill>
                <a:latin typeface="Century Gothic"/>
              </a:rPr>
              <a:t>: il tasso praticato al cliente non consente di remunerare il capitale al livello desiderato (r &lt; colonna blu). L’operazione viene accettata in deroga, per non perdere il cliente che genera interessanti flussi di ricavi nel suo complesso. Il tasso r non dovrebbe comunque arrivare ad erodere completamente la componente arancione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Gothic"/>
              </a:rPr>
              <a:t>Una banca ha erogato un portafoglio prestiti per un ammontare di 200 milioni di euro a famiglie per l’acquisto di edilizia residenziale. La PD stimata è pari allo 0,2% su base annua e il RR in caso di insolvenza è stimato pari al 95%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633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633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Gothic"/>
              </a:rPr>
              <a:t>Per la gestione delle procedure di istruttoria fidi e per la gestione dei prestiti in essere la banca sostiene costi totali pari a 1,5 mln. Euro. Il costo di funding per la banca (approx. con l’Euribor 12 mesi) è pari a 4%. Il livello di perdita inattesa del portafoglio prestiti è stimato essere pari al 1,8% e la banca vuole offrire ai propri azionisti un Roe pari al 12% su base annua.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633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Gothic"/>
              </a:rPr>
              <a:t>Quale tasso deve essere praticato sui prestiti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entury Gothic"/>
              </a:rPr>
              <a:t>La banca Alfa ha concesso un prestito quinquennale all’azienda Pinco, praticando un tasso fisso pari al 4,8 per cento su base annua. L’azienda è stata classificata nella classe di rating B, alla quale corrisponde un probabilità di default attesa pari allo 0,78 per cento. 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633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633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entury Gothic"/>
              </a:rPr>
              <a:t>Il tasso di recupero stimato sul prestito – in caso di default – è solamente pari al 20 per cento, dal momento che l’operazione non è assistita da garanzie reali di valore. La perdita inattesa della posizione creditizia è stimato essere pari al 5%. I costi operativi associati alla gestione dell’operazione sono pari allo 0,45% su base annua. Il costo di </a:t>
            </a:r>
            <a:r>
              <a:rPr b="0" i="1" lang="it-IT" sz="1900" spc="-1" strike="noStrike">
                <a:solidFill>
                  <a:srgbClr val="000000"/>
                </a:solidFill>
                <a:latin typeface="Century Gothic"/>
              </a:rPr>
              <a:t>funding</a:t>
            </a:r>
            <a:r>
              <a:rPr b="0" lang="it-IT" sz="1900" spc="-1" strike="noStrike">
                <a:solidFill>
                  <a:srgbClr val="000000"/>
                </a:solidFill>
                <a:latin typeface="Century Gothic"/>
              </a:rPr>
              <a:t> per la banca Alfa è pari al 3%, mentre il tasso </a:t>
            </a:r>
            <a:r>
              <a:rPr b="0" i="1" lang="it-IT" sz="1900" spc="-1" strike="noStrike">
                <a:solidFill>
                  <a:srgbClr val="000000"/>
                </a:solidFill>
                <a:latin typeface="Century Gothic"/>
              </a:rPr>
              <a:t>risk free </a:t>
            </a:r>
            <a:r>
              <a:rPr b="0" lang="it-IT" sz="1900" spc="-1" strike="noStrike">
                <a:solidFill>
                  <a:srgbClr val="000000"/>
                </a:solidFill>
                <a:latin typeface="Century Gothic"/>
              </a:rPr>
              <a:t>è pari al 2,5%. 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633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633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entury Gothic"/>
              </a:rPr>
              <a:t>Sapendo che gli azionisti desiderano un Roe del 10% su base annua, l’operazione presenta Eva positivo, negativo e neutral?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5"/>
          <p:cNvSpPr/>
          <p:nvPr/>
        </p:nvSpPr>
        <p:spPr>
          <a:xfrm>
            <a:off x="3348000" y="3429000"/>
            <a:ext cx="2592360" cy="57636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02680" cy="1547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1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entury Gothic"/>
              </a:rPr>
              <a:t>TASSO DI INTERESSE RICHIESTO AL CLIENTE =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61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entury Gothic"/>
              </a:rPr>
              <a:t>COSTO DI PROVVISTA FONDI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61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entury Gothic"/>
              </a:rPr>
              <a:t>+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61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entury Gothic"/>
              </a:rPr>
              <a:t>SPREA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61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61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Lo spread dovrebbe essere fissato in funzione di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12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Costi amministrazione, gestione e monitoraggio della posizione (allocati tramite i sistemi di contabilità analitica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12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Perdita attes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12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Remunerazione del capitale proprio necessario a fronteggiare il rischio di perdite inatte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1200" algn="ctr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olo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Il costo di </a:t>
            </a:r>
            <a:r>
              <a:rPr b="0" i="1" lang="it-IT" sz="2800" spc="-1" strike="noStrike">
                <a:solidFill>
                  <a:srgbClr val="000000"/>
                </a:solidFill>
                <a:latin typeface="Century Gothic"/>
              </a:rPr>
              <a:t>funding</a:t>
            </a: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 è comunicato dalla tesoreria alla rete sotto forma di tasso interno di trasferimento (Tit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Il costo di </a:t>
            </a:r>
            <a:r>
              <a:rPr b="0" i="1" lang="it-IT" sz="2800" spc="-1" strike="noStrike">
                <a:solidFill>
                  <a:srgbClr val="000000"/>
                </a:solidFill>
                <a:latin typeface="Century Gothic"/>
              </a:rPr>
              <a:t>funding</a:t>
            </a: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 per la banca dipende da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 algn="just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Gothic"/>
              </a:rPr>
              <a:t>Mix di fondi ti finanziamento utilizzate (rifinanziamento, mercato interbancario, raccolta obbligazionaria all’ingrosso, raccolta </a:t>
            </a:r>
            <a:r>
              <a:rPr b="0" i="1" lang="it-IT" sz="2200" spc="-1" strike="noStrike">
                <a:solidFill>
                  <a:srgbClr val="000000"/>
                </a:solidFill>
                <a:latin typeface="Century Gothic"/>
              </a:rPr>
              <a:t>retail</a:t>
            </a:r>
            <a:r>
              <a:rPr b="0" lang="it-IT" sz="2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 algn="just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Gothic"/>
              </a:rPr>
              <a:t>Livello di rischio della banca percepito dai datori di fondi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 algn="just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Gothic"/>
              </a:rPr>
              <a:t>Scadenza dell’approvvigionamento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91520" cy="14079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entury Gothic"/>
              </a:rPr>
              <a:t>PERDITA ATTESA=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ESPOSIZIONE ATTESA IN CASO DI INSOLVENZA (</a:t>
            </a:r>
            <a:r>
              <a:rPr b="0" i="1" lang="it-IT" sz="2300" spc="-1" strike="noStrike">
                <a:solidFill>
                  <a:srgbClr val="000000"/>
                </a:solidFill>
                <a:latin typeface="Century Gothic"/>
              </a:rPr>
              <a:t>exposure at default</a:t>
            </a: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 – EAD)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entury Gothic"/>
              </a:rPr>
              <a:t>PROBABILITA’ DI INSOLVENZA 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it-IT" sz="2300" spc="-1" strike="noStrike">
                <a:solidFill>
                  <a:srgbClr val="000000"/>
                </a:solidFill>
                <a:latin typeface="Century Gothic"/>
              </a:rPr>
              <a:t>default probability</a:t>
            </a: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 –  P</a:t>
            </a:r>
            <a:r>
              <a:rPr b="0" lang="it-IT" sz="2300" spc="-1" strike="noStrike" baseline="-25000">
                <a:solidFill>
                  <a:srgbClr val="000000"/>
                </a:solidFill>
                <a:latin typeface="Century Gothic"/>
              </a:rPr>
              <a:t>DEFAULT</a:t>
            </a: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x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entury Gothic"/>
              </a:rPr>
              <a:t>TASSO DI PERDITA IN CASO DI INSOLVENZA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Century Gothic"/>
              </a:rPr>
              <a:t>loss given default</a:t>
            </a: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 –  LGD)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Dove: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LGD = 1 – tasso di recupero (recovery rate – RR)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26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91520" cy="1407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5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2941560" cy="35924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4"/>
          <p:cNvSpPr/>
          <p:nvPr/>
        </p:nvSpPr>
        <p:spPr>
          <a:xfrm>
            <a:off x="4211640" y="1773360"/>
            <a:ext cx="43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Portafoglio: 100 aziende con rating B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Forma tecnica: prestito rateale, importo di € 100.0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Aspettative di recupero in caso di default: 30%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Quanti casi di insolvenza? 1 cas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Quanto perde la banca? 70% x 100.000 euro = 70.000 eur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Perdita attesa: 70.000 / 10.000.000 = 0,7%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699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it-IT" sz="1700" spc="-1" strike="noStrike">
                <a:solidFill>
                  <a:srgbClr val="000000"/>
                </a:solidFill>
                <a:latin typeface="Century Gothic"/>
              </a:rPr>
              <a:t>ESPOSIZIONI A VALORE CERTO: coincide con il debito </a:t>
            </a:r>
            <a:r>
              <a:rPr b="0" lang="it-IT" sz="17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it-IT" sz="1700" spc="-1" strike="noStrike">
                <a:solidFill>
                  <a:srgbClr val="000000"/>
                </a:solidFill>
                <a:latin typeface="Century Gothic"/>
              </a:rPr>
              <a:t>residuo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it-IT" sz="1700" spc="-1" strike="noStrike">
                <a:solidFill>
                  <a:srgbClr val="000000"/>
                </a:solidFill>
                <a:latin typeface="Century Gothic"/>
              </a:rPr>
              <a:t>ESPOSIZIONI A VALORE INCERTO (es. aperture di credito in c/c)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Fattori da prendere in considerazione: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quota di fido utilizzata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(DP – </a:t>
            </a:r>
            <a:r>
              <a:rPr b="0" i="1" lang="it-IT" sz="1800" spc="-1" strike="noStrike">
                <a:solidFill>
                  <a:srgbClr val="000000"/>
                </a:solidFill>
                <a:latin typeface="Century Gothic"/>
              </a:rPr>
              <a:t>drawn position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): rappresenta l’attuale quota di esposizione creditizia per la banca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quota di fido non utilizzata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(UP – </a:t>
            </a:r>
            <a:r>
              <a:rPr b="0" i="1" lang="it-IT" sz="1800" spc="-1" strike="noStrike">
                <a:solidFill>
                  <a:srgbClr val="000000"/>
                </a:solidFill>
                <a:latin typeface="Century Gothic"/>
              </a:rPr>
              <a:t>undrawn position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): occorre stimare quale % della parte attualmente non utilizzata potrebbe essere prelevata dal debitore prima di un eventuale default (UGD – </a:t>
            </a:r>
            <a:r>
              <a:rPr b="0" i="1" lang="it-IT" sz="1800" spc="-1" strike="noStrike">
                <a:solidFill>
                  <a:srgbClr val="000000"/>
                </a:solidFill>
                <a:latin typeface="Century Gothic"/>
              </a:rPr>
              <a:t>usage given default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Nelle esposizioni a valore incerto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EAD = DP + UGD x UP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Freccia a destra 3"/>
          <p:cNvSpPr/>
          <p:nvPr/>
        </p:nvSpPr>
        <p:spPr>
          <a:xfrm>
            <a:off x="882720" y="1925640"/>
            <a:ext cx="358560" cy="287280"/>
          </a:xfrm>
          <a:prstGeom prst="rightArrow">
            <a:avLst>
              <a:gd name="adj1" fmla="val 50000"/>
              <a:gd name="adj2" fmla="val 49925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ccia a destra 4"/>
          <p:cNvSpPr/>
          <p:nvPr/>
        </p:nvSpPr>
        <p:spPr>
          <a:xfrm>
            <a:off x="932040" y="2637000"/>
            <a:ext cx="360360" cy="287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olo 1" descr=""/>
          <p:cNvPicPr/>
          <p:nvPr/>
        </p:nvPicPr>
        <p:blipFill>
          <a:blip r:embed="rId1"/>
          <a:stretch/>
        </p:blipFill>
        <p:spPr>
          <a:xfrm>
            <a:off x="463680" y="10944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412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0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Principali fattori che influenzano l’ammontare recuperabile in caso di insolvenza e i tempi del recupero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60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604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Le caratteristiche tecniche del finanziament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89120" indent="-27432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presenza di attività, reali o finanziarie, a garanzia del credit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89120" indent="-27432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presenza di forme di subordinazione o di </a:t>
            </a:r>
            <a:r>
              <a:rPr b="0" i="1" lang="it-IT" sz="1800" spc="-1" strike="noStrike">
                <a:solidFill>
                  <a:srgbClr val="000000"/>
                </a:solidFill>
                <a:latin typeface="Century Gothic"/>
              </a:rPr>
              <a:t>seniority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rispetto ad altri creditor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89120" indent="-27432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presenza di garanzie fornite da soggetti terz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604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Le caratteristiche del soggetto finanziat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89120" indent="-27432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settore produttivo (incide sul grado di liquidabilità dell’attivo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89120" indent="-27432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localizzazione geografic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89120" indent="-27432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gravità dello stato di dissest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604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L’efficacia della funzione recupero crediti della singola banc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604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Il contesto estern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89120" indent="-27432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stato del ciclo economic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89120" indent="-27432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livello dei tassi di interes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entury Gothic"/>
              </a:rPr>
              <a:t>Esempio: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Esposizione = 1.000.000 euro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Ammontare stimato recuperabile = 750.000 euro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Tempo atteso di recupero = 4 anni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Livello corrente tassi di interesse = 1,5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entury Gothic"/>
              </a:rPr>
              <a:t>Costo del contenzioso = 50.000 euro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07:42:01Z</dcterms:created>
  <dc:creator>Devincentiis</dc:creator>
  <dc:description/>
  <dc:language>en-US</dc:language>
  <cp:lastModifiedBy>docenti</cp:lastModifiedBy>
  <dcterms:modified xsi:type="dcterms:W3CDTF">2013-05-18T14:37:27Z</dcterms:modified>
  <cp:revision>70</cp:revision>
  <dc:subject/>
  <dc:title>Presentazione standard di PowerPoint</dc:title>
</cp:coreProperties>
</file>